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822-7156-46C7-9A49-0D0A08DD7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ash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0.xml"/><Relationship Id="rId11" Type="http://schemas.openxmlformats.org/officeDocument/2006/relationships/slide" Target="slide15.xml"/><Relationship Id="rId12" Type="http://schemas.openxmlformats.org/officeDocument/2006/relationships/image" Target="../media/image2.jpeg"/><Relationship Id="rId13" Type="http://schemas.openxmlformats.org/officeDocument/2006/relationships/slide" Target="slide19.xml"/><Relationship Id="rId14" Type="http://schemas.openxmlformats.org/officeDocument/2006/relationships/image" Target="../media/image3.jpeg"/><Relationship Id="rId15" Type="http://schemas.openxmlformats.org/officeDocument/2006/relationships/slide" Target="slide18.xml"/><Relationship Id="rId16" Type="http://schemas.openxmlformats.org/officeDocument/2006/relationships/image" Target="../media/image4.jpeg"/><Relationship Id="rId17" Type="http://schemas.openxmlformats.org/officeDocument/2006/relationships/slide" Target="slide17.xml"/><Relationship Id="rId18" Type="http://schemas.openxmlformats.org/officeDocument/2006/relationships/image" Target="../media/image5.jpe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6858000"/>
          </a:xfrm>
          <a:prstGeom prst="rect">
            <a:avLst/>
          </a:prstGeom>
          <a:solidFill>
            <a:srgbClr val="e4e3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fortress%20baths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655308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050840"/>
            <a:ext cx="2057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Cyflwyn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Ta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Gwerthus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Casgl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Athra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Adnodd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Cydnabyddia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34320" y="5867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23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Final%20Activities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800600" y="0"/>
            <a:ext cx="946080" cy="923760"/>
          </a:xfrm>
          <a:prstGeom prst="rect">
            <a:avLst/>
          </a:prstGeom>
          <a:ln w="0">
            <a:noFill/>
          </a:ln>
        </p:spPr>
      </p:pic>
      <p:pic>
        <p:nvPicPr>
          <p:cNvPr id="6" name="Final%20Images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303960" y="142920"/>
            <a:ext cx="108756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Final%20Movies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886880" y="152280"/>
            <a:ext cx="1064880" cy="825480"/>
          </a:xfrm>
          <a:prstGeom prst="rect">
            <a:avLst/>
          </a:prstGeom>
          <a:ln w="0">
            <a:noFill/>
          </a:ln>
        </p:spPr>
      </p:pic>
      <p:pic>
        <p:nvPicPr>
          <p:cNvPr id="8" name="Final%20Websites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00400" y="0"/>
            <a:ext cx="812880" cy="915840"/>
          </a:xfrm>
          <a:prstGeom prst="rect">
            <a:avLst/>
          </a:prstGeom>
          <a:ln w="0">
            <a:noFill/>
          </a:ln>
        </p:spPr>
      </p:pic>
      <p:pic>
        <p:nvPicPr>
          <p:cNvPr id="9" name="Forward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990720" y="6012000"/>
            <a:ext cx="571320" cy="617400"/>
          </a:xfrm>
          <a:prstGeom prst="rect">
            <a:avLst/>
          </a:prstGeom>
          <a:ln w="0">
            <a:noFill/>
          </a:ln>
        </p:spPr>
      </p:pic>
      <p:pic>
        <p:nvPicPr>
          <p:cNvPr id="10" name="Back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114480" y="6012000"/>
            <a:ext cx="571320" cy="6174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3124080" y="7621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800600" y="7621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400800" y="7621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848720" y="8380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3127680" y="685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w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381200" y="685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weithgaredd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248880" y="68580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wedd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7925040" y="6858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filmi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14480" y="6477120"/>
            <a:ext cx="571320" cy="228600"/>
          </a:xfrm>
          <a:prstGeom prst="rect">
            <a:avLst/>
          </a:prstGeom>
          <a:solidFill>
            <a:srgbClr val="e4e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90720" y="6477120"/>
            <a:ext cx="571320" cy="228600"/>
          </a:xfrm>
          <a:prstGeom prst="rect">
            <a:avLst/>
          </a:prstGeom>
          <a:solidFill>
            <a:srgbClr val="e4e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76680" y="6477120"/>
            <a:ext cx="616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n ô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861120" y="6477120"/>
            <a:ext cx="814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mla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idinfo.com/World_History/AncientRome.html" TargetMode="External"/><Relationship Id="rId2" Type="http://schemas.openxmlformats.org/officeDocument/2006/relationships/hyperlink" Target="http://www.kidinfo.com/World_History/AncientRome.html" TargetMode="External"/><Relationship Id="rId3" Type="http://schemas.openxmlformats.org/officeDocument/2006/relationships/hyperlink" Target="http://www.kidinfo.com/World_History/AncientRome.html" TargetMode="External"/><Relationship Id="rId4" Type="http://schemas.openxmlformats.org/officeDocument/2006/relationships/hyperlink" Target="http://www.kidinfo.com/World_History/AncientRome.html" TargetMode="External"/><Relationship Id="rId5" Type="http://schemas.openxmlformats.org/officeDocument/2006/relationships/hyperlink" Target="http://www.kidinfo.com/World_History/AncientRome.html" TargetMode="External"/><Relationship Id="rId6" Type="http://schemas.openxmlformats.org/officeDocument/2006/relationships/hyperlink" Target="http://www.bbc.co.uk/scotland/education/seeyouseeme/romansinscotland" TargetMode="External"/><Relationship Id="rId7" Type="http://schemas.openxmlformats.org/officeDocument/2006/relationships/hyperlink" Target="http://www.bbc.co.uk/scotland/education/seeyouseeme/romansinscotland" TargetMode="External"/><Relationship Id="rId8" Type="http://schemas.openxmlformats.org/officeDocument/2006/relationships/hyperlink" Target="http://www.bbc.co.uk/scotland/education/seeyouseeme/romansinscotland" TargetMode="External"/><Relationship Id="rId9" Type="http://schemas.openxmlformats.org/officeDocument/2006/relationships/hyperlink" Target="http://www.bbc.co.uk/scotland/education/seeyouseeme/romansinscotland" TargetMode="External"/><Relationship Id="rId10" Type="http://schemas.openxmlformats.org/officeDocument/2006/relationships/hyperlink" Target="http://www.bbc.co.uk/scotland/education/seeyouseeme/romansinscotland" TargetMode="External"/><Relationship Id="rId11" Type="http://schemas.openxmlformats.org/officeDocument/2006/relationships/hyperlink" Target="http://www.bbc.co.uk/scotland/education/seeyouseeme/romansinscotland" TargetMode="External"/><Relationship Id="rId12" Type="http://schemas.openxmlformats.org/officeDocument/2006/relationships/hyperlink" Target="http://www.bbc.co.uk/scotland/education/seeyouseeme/romansinscotland" TargetMode="External"/><Relationship Id="rId13" Type="http://schemas.openxmlformats.org/officeDocument/2006/relationships/hyperlink" Target="http://www.bbc.co.uk/scotland/education/seeyouseeme/romansinscotland" TargetMode="External"/><Relationship Id="rId14" Type="http://schemas.openxmlformats.org/officeDocument/2006/relationships/hyperlink" Target="http://www.bbc.co.uk/scotland/education/seeyouseeme/romansinscotland" TargetMode="External"/><Relationship Id="rId15" Type="http://schemas.openxmlformats.org/officeDocument/2006/relationships/hyperlink" Target="http://www.bbc.co.uk/scotland/education/seeyouseeme/romansinscotland" TargetMode="External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edia%20-%20Cymraeg/Drag%20and%20Drop%20Activity/index.htm" TargetMode="External"/><Relationship Id="rId2" Type="http://schemas.openxmlformats.org/officeDocument/2006/relationships/hyperlink" Target="file:///Media%20-%20Cymraeg/Modelling%20Activity/Shopping%20at%20baths.xlt" TargetMode="External"/><Relationship Id="rId3" Type="http://schemas.openxmlformats.org/officeDocument/2006/relationships/hyperlink" Target="file:///Media%20-%20Cymraeg/Modelling%20Activity/Shopping%20at%20baths.xlt" TargetMode="External"/><Relationship Id="rId4" Type="http://schemas.openxmlformats.org/officeDocument/2006/relationships/hyperlink" Target="file:///Media%20-%20Cymraeg/Modelling%20Activity/Shopping%20at%20baths.xlt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LLyfrau/Task%201.doc" TargetMode="External"/><Relationship Id="rId2" Type="http://schemas.openxmlformats.org/officeDocument/2006/relationships/hyperlink" Target="file:///LLyfrau/Task%201.doc" TargetMode="External"/><Relationship Id="rId3" Type="http://schemas.openxmlformats.org/officeDocument/2006/relationships/hyperlink" Target="file:///LLyfrau/Task%202.doc" TargetMode="External"/><Relationship Id="rId4" Type="http://schemas.openxmlformats.org/officeDocument/2006/relationships/hyperlink" Target="file:///LLyfrau/Task%202.doc" TargetMode="External"/><Relationship Id="rId5" Type="http://schemas.openxmlformats.org/officeDocument/2006/relationships/hyperlink" Target="file:///LLyfrau/Task%203.doc" TargetMode="External"/><Relationship Id="rId6" Type="http://schemas.openxmlformats.org/officeDocument/2006/relationships/hyperlink" Target="file:///LLyfrau/Task%203.doc" TargetMode="External"/><Relationship Id="rId7" Type="http://schemas.openxmlformats.org/officeDocument/2006/relationships/hyperlink" Target="file:///LLyfrau/Task%204.doc" TargetMode="External"/><Relationship Id="rId8" Type="http://schemas.openxmlformats.org/officeDocument/2006/relationships/hyperlink" Target="file:///LLyfrau/Task%204.doc" TargetMode="External"/><Relationship Id="rId9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bs.org/wgbh/nova/lostempires/roman/day.html" TargetMode="External"/><Relationship Id="rId2" Type="http://schemas.openxmlformats.org/officeDocument/2006/relationships/hyperlink" Target="http://www.encarta.msn.co.uk/find/MediaMax.asp?pg=3&amp;ti=761577185&amp;idx=121646507" TargetMode="External"/><Relationship Id="rId3" Type="http://schemas.openxmlformats.org/officeDocument/2006/relationships/hyperlink" Target="http://www.bbc.co.uk/scotland/education/seeyouseeme/romansinscotland/fort/baths2.html" TargetMode="External"/><Relationship Id="rId4" Type="http://schemas.openxmlformats.org/officeDocument/2006/relationships/hyperlink" Target="http://www.roman-empire.net/children/gods.html" TargetMode="External"/><Relationship Id="rId5" Type="http://schemas.openxmlformats.org/officeDocument/2006/relationships/hyperlink" Target="http://www.gwydir.demon.co.uk/jo/roman/index.htm" TargetMode="External"/><Relationship Id="rId6" Type="http://schemas.openxmlformats.org/officeDocument/2006/relationships/hyperlink" Target="http://www.gwydir.demon.co.uk/jo/roman/index.htm" TargetMode="External"/><Relationship Id="rId7" Type="http://schemas.openxmlformats.org/officeDocument/2006/relationships/hyperlink" Target="http://www.bbc.co.uk/scotland/education/seeyouseeme/romansinscotland/kids.html" TargetMode="External"/><Relationship Id="rId8" Type="http://schemas.openxmlformats.org/officeDocument/2006/relationships/hyperlink" Target="http://www.bbc.co.uk/education/medicine/nonint/prehist/ph/prphgs.shtml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Media%20-%20Cymraeg/Movies/Senneca%20Welsh.mov" TargetMode="External"/><Relationship Id="rId2" Type="http://schemas.openxmlformats.org/officeDocument/2006/relationships/hyperlink" Target="file:///Media%20-%20Cymraeg/Movies/Senneca%20Welsh.mov" TargetMode="External"/><Relationship Id="rId3" Type="http://schemas.openxmlformats.org/officeDocument/2006/relationships/hyperlink" Target="file:///Media%20-%20Cymraeg/Movies/Oil%20and%20Strigil%20Photo%20Jpeg.mov" TargetMode="External"/><Relationship Id="rId4" Type="http://schemas.openxmlformats.org/officeDocument/2006/relationships/hyperlink" Target="file:///Media%20-%20Cymraeg/Movies/Oil%20and%20Strigil%20Photo%20Jpeg.mov" TargetMode="External"/><Relationship Id="rId5" Type="http://schemas.openxmlformats.org/officeDocument/2006/relationships/hyperlink" Target="file:///Media%20-%20Cymraeg/Movies/Outside%20Area.mov" TargetMode="External"/><Relationship Id="rId6" Type="http://schemas.openxmlformats.org/officeDocument/2006/relationships/hyperlink" Target="file:///Media%20-%20Cymraeg/Movies/Outside%20Area.mov" TargetMode="External"/><Relationship Id="rId7" Type="http://schemas.openxmlformats.org/officeDocument/2006/relationships/hyperlink" Target="file:///Media%20-%20Cymraeg/Virtual/barrack%20room%20scene.mov" TargetMode="External"/><Relationship Id="rId8" Type="http://schemas.openxmlformats.org/officeDocument/2006/relationships/hyperlink" Target="file:///Media%20-%20Cymraeg/Virtual/barrack%20room%20scene.mov" TargetMode="External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edia%20-%20Cymraeg/Images/List%20of%20Roman%20Images.doc" TargetMode="External"/><Relationship Id="rId2" Type="http://schemas.openxmlformats.org/officeDocument/2006/relationships/hyperlink" Target="file:///Media%20-%20Cymraeg/Images/List%20of%20Roman%20Images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17.xml"/><Relationship Id="rId4" Type="http://schemas.openxmlformats.org/officeDocument/2006/relationships/hyperlink" Target="file:///LLyfrau/Task%201.doc" TargetMode="External"/><Relationship Id="rId5" Type="http://schemas.openxmlformats.org/officeDocument/2006/relationships/hyperlink" Target="file:///Media%20-%20Cymraeg/Drag%20and%20Drop%20Activity/index.htm" TargetMode="External"/><Relationship Id="rId6" Type="http://schemas.openxmlformats.org/officeDocument/2006/relationships/slide" Target="slide10.xm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hyperlink" Target="file:///Media%20-%20Cymraeg/Virtual/barrack%20room%20scene.mov" TargetMode="External"/><Relationship Id="rId6" Type="http://schemas.openxmlformats.org/officeDocument/2006/relationships/hyperlink" Target="file:///LLyfrau/Task%202.doc" TargetMode="External"/><Relationship Id="rId7" Type="http://schemas.openxmlformats.org/officeDocument/2006/relationships/slide" Target="slide17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23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00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NMGW Icon" descr=""/>
          <p:cNvPicPr/>
          <p:nvPr/>
        </p:nvPicPr>
        <p:blipFill>
          <a:blip r:embed="rId1"/>
          <a:stretch/>
        </p:blipFill>
        <p:spPr>
          <a:xfrm>
            <a:off x="1623960" y="304920"/>
            <a:ext cx="5896080" cy="447480"/>
          </a:xfrm>
          <a:prstGeom prst="rect">
            <a:avLst/>
          </a:prstGeom>
          <a:ln w="0">
            <a:noFill/>
          </a:ln>
        </p:spPr>
      </p:pic>
      <p:pic>
        <p:nvPicPr>
          <p:cNvPr id="72" name="NewportLogo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846000" cy="1679400"/>
          </a:xfrm>
          <a:prstGeom prst="rect">
            <a:avLst/>
          </a:prstGeom>
          <a:ln w="0">
            <a:noFill/>
          </a:ln>
        </p:spPr>
      </p:pic>
      <p:pic>
        <p:nvPicPr>
          <p:cNvPr id="73" name="nmgw_cym" descr=""/>
          <p:cNvPicPr/>
          <p:nvPr/>
        </p:nvPicPr>
        <p:blipFill>
          <a:blip r:embed="rId3"/>
          <a:stretch/>
        </p:blipFill>
        <p:spPr>
          <a:xfrm>
            <a:off x="2381400" y="838080"/>
            <a:ext cx="4383000" cy="139680"/>
          </a:xfrm>
          <a:prstGeom prst="rect">
            <a:avLst/>
          </a:prstGeom>
          <a:ln w="0">
            <a:noFill/>
          </a:ln>
        </p:spPr>
      </p:pic>
      <p:pic>
        <p:nvPicPr>
          <p:cNvPr id="74" name="nmgw_eng" descr=""/>
          <p:cNvPicPr/>
          <p:nvPr/>
        </p:nvPicPr>
        <p:blipFill>
          <a:blip r:embed="rId4"/>
          <a:stretch/>
        </p:blipFill>
        <p:spPr>
          <a:xfrm>
            <a:off x="2749680" y="1066680"/>
            <a:ext cx="3646440" cy="152640"/>
          </a:xfrm>
          <a:prstGeom prst="rect">
            <a:avLst/>
          </a:prstGeom>
          <a:ln w="0">
            <a:noFill/>
          </a:ln>
        </p:spPr>
      </p:pic>
      <p:pic>
        <p:nvPicPr>
          <p:cNvPr id="75" name="CADW" descr=""/>
          <p:cNvPicPr/>
          <p:nvPr/>
        </p:nvPicPr>
        <p:blipFill>
          <a:blip r:embed="rId5"/>
          <a:stretch/>
        </p:blipFill>
        <p:spPr>
          <a:xfrm>
            <a:off x="4267080" y="5257800"/>
            <a:ext cx="696960" cy="17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10280" y="63244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94800" y="6245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6" action="ppaction://hlinksldjump"/>
              </a:rPr>
              <a:t>Osgoi’r Cyflwyn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adw" descr=""/>
          <p:cNvPicPr/>
          <p:nvPr/>
        </p:nvPicPr>
        <p:blipFill>
          <a:blip r:embed="rId7"/>
          <a:stretch/>
        </p:blipFill>
        <p:spPr>
          <a:xfrm>
            <a:off x="3962520" y="3733920"/>
            <a:ext cx="121104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adadad"/>
                  </a:solidFill>
                  <a:miter/>
                </a:ln>
                <a:solidFill>
                  <a:srgbClr val="f2f2f2">
                    <a:alpha val="50000"/>
                  </a:srgbClr>
                </a:solidFill>
                <a:latin typeface="Arial Black"/>
              </a:rPr>
              <a:t>Evaluation</a:t>
            </a:r>
            <a:endParaRPr b="0" lang="en-US" sz="2400" spc="1" strike="noStrike">
              <a:ln w="6480">
                <a:solidFill>
                  <a:srgbClr val="adadad"/>
                </a:solidFill>
                <a:miter/>
              </a:ln>
              <a:solidFill>
                <a:srgbClr val="f2f2f2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81080" y="990720"/>
          <a:ext cx="7086600" cy="5835600"/>
        </p:xfrm>
        <a:graphic>
          <a:graphicData uri="http://schemas.openxmlformats.org/drawingml/2006/table">
            <a:tbl>
              <a:tblPr/>
              <a:tblGrid>
                <a:gridCol w="1218960"/>
                <a:gridCol w="1600200"/>
                <a:gridCol w="1981440"/>
                <a:gridCol w="228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ngfilw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wri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aeth Milwr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g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labelu darlun o’r baddonau â’r enwau Lladin cywi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labelu darlun o’r baddonau â’r enwau Lladin a gwybod eu hystyr yn Gymrae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labelu’r darlun â’r enwau Lladin a’r rhai Cymraeg ac esbonio’r hyn sy’n digwydd ym mhob ard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g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ddewis 5 gwrthrych a’u label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ddewis 5 gwrthrych, eu labelu ac esbonio eu pwrp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roi rhesymau am fy newis o 5 gwrthrych ac esbonio eu pwrp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g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gynllunio patrwm ar gyfer gem-fodrw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gynllunio patrwm Rhufeinig ar gyfer gem-fodrw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gynllunio patrwm Rhufeinig ar gyfer gem-fodrwy ac esbonio ei ysty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g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af restru 4 gweithgaredd y gall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ngwesteion eu mwynhau.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gynllunio a disgrifio 4 gweithgaredd neu fw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 esbonio ym mha drefn y byddwn ni’n eu gwneu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gynllunio a disgrifio’n fanwl  4 gweithgaredd neu fwy ar gyfer y teulu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yd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 esbonio ym mha drefn y byddwn ni’n eu gwneud.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g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ddewis beth yr hoffwn ei brynu yn y baddonau heb wario mwy o arian nag sydd gen 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af wario fy arian fel bod fy ngwestai wedi’i fwydo, yn lân ac wedi ymlac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yf i wedi sicrhau bod fy ngwestai wedi’i fwydo, yn lân ac wedi ymlacio a gallaf esbonio fy rhesymau dros ddewis yr eitema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 fy nghyflwyniad yn dweud wrth bobl am yr hyn y gallan nhw ei wneud yn y baddona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 fy nghyflwyniad yn cynnwys gwybodaeth o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 un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’r tasgau am yr hyn y gallan nhw ei wneud yn y baddona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e fy nghyflwyniad yn cynnwys gwybodaeth o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 un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’r tasgau am yr hyn y gallan nhw ei wneud yn y baddonau. Gallaf ateb cwestiynau am fy ngwait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33720" y="121932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1219320"/>
            <a:ext cx="647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914400"/>
            <a:ext cx="63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gl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ongyfarchiada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lynodd y Pennaeth a’i deulu eich cyfarwyddiadau ar gyfer eu diwrnod ym Maddonau y Gaer yng Nghaerle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 gawson nhw amser gwych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olch i’ch cynllunio chi, mae’r Pennaeth wedi penderfynu gwneud ffrindiau â Rhuf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ydych chi wedi ennill trip i Rufain, pob lwc wrth gynllunio eich tr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91320" y="60357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Adnoddau Athra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14300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91440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l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 wybodaeth ynghylch defnyddio’r adnodd hwn, edrychwch ar y Nodiadau Athraw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merwch amser i edrych drwy’r adnodd hwn cyn gadael i’ch plant ei ddefnyddio, er mwyn sicrhau eich bod chi’n gyfarwydd â’r cynnw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llir newid ac addasu’r holl dasgau a’r gweithgareddau fel bo a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914400"/>
            <a:ext cx="716256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noddau Athraw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Llyfrau a Gymeradwyir yn U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e llawer o wefannau ardderchog sy’n cynnwys gwybodaeth werthfawr i athraw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e’r wefan isod yn cynnig rhestr o wefannau Rhufeinig fel ffynhonnell gwybodaeth bellac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kidinfo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.com/World_History/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AncientRome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e gwefan Y Rhufeiniaid yn yr Alban gan y BBC yn adnodd aml‑gyfrwng rhyngweithiol sy’n llawn gwybodaeth ac yn ddifyr i blan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6"/>
              </a:rPr>
              <a:t>www.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7"/>
              </a:rPr>
              <a:t>bbc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.co.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9"/>
              </a:rPr>
              <a:t>uk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0"/>
              </a:rPr>
              <a:t>/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1"/>
              </a:rPr>
              <a:t>scotland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2"/>
              </a:rPr>
              <a:t>/education/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3"/>
              </a:rPr>
              <a:t>seeyouseeme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4"/>
              </a:rPr>
              <a:t>/</a:t>
            </a:r>
            <a:r>
              <a:rPr b="0" lang="en-GB" sz="1800" spc="-1" strike="noStrike" u="sng">
                <a:solidFill>
                  <a:srgbClr val="3333ff"/>
                </a:solidFill>
                <a:uFillTx/>
                <a:latin typeface="Arial"/>
                <a:hlinkClick r:id="rId15"/>
              </a:rPr>
              <a:t>romansin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ylion cyswllt ar gyfer ymweliad saf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r Adran Addy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mgueddfa’r Lleng Rufein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yd Fa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er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newy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P18 1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fôn: 01633 4305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90920" y="17524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Gweithgared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Lly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Gwefann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Fideos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 o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 Gaer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Ffotograffau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 o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 Gaer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6240" y="914400"/>
            <a:ext cx="280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hestr Adnoddau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90920" y="1695600"/>
            <a:ext cx="3429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Labelu’r Baddon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g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Siopa yn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 y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 Baddon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4800" y="914400"/>
            <a:ext cx="3693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hestr Gweithgareddau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90920" y="1905120"/>
            <a:ext cx="5638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lai’r llyfrau hyn eich helpu gyda’ch tasgau, ond peidiwch ag anghofio edrych ar lyfrau era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 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6"/>
              </a:rPr>
              <a:t> 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7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5520" y="914400"/>
            <a:ext cx="4150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hestr Lyfrau Awgrymedig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66880" y="1523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4280" y="914400"/>
            <a:ext cx="428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Rhestr Gwefannau Awgrymedig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7280" y="15238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s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7280" y="28954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s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7280" y="36576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sg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7280" y="51055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sg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447920"/>
            <a:ext cx="6400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wch ar daith rithiol o gwmpas un o’r baddonau mwyaf godidog a adeiladwyd erioed: Baddonau Caraca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nc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ma Microsoft Encarta Ar‑lein yn dangos cynllun o Faddonau Rhufein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BBC Scot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wybodaeth am arteffactau ymdrochi a ganfuwyd yn Bearsden yn Glasg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oman G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es a lluniau o dduwiau Rhufein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Gwydir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6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wefan yn llawn gwybodaeth am dduwiau, calendrau, rhifau a phlanedau Rhufeinig. Mae hefyd yn cynnwys gweithgaredd cynllunio mosä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7"/>
              </a:rPr>
              <a:t>BBC Romans in Scot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wch ar daith rithiol o gwmpas caer Rufeinig gan ei chymharu â phentref Celtaid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BBC Medicine Through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llenwch ran o sylwadau enwog Seneca am fywyd yn y Baddona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8800" y="2743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438280"/>
            <a:ext cx="655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Ffilm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grifiad Seneca o fyw yn agos i faddonau Rhufeinig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Ffilm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rychwch sut roedd ymdrochwyr yn eu glanhau eu hunain ag olew a chrafell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Ffilm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6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wch ar daith y tu allan i faddonau’r gaer Rufeinig yng Nghaerllion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7"/>
              </a:rPr>
              <a:t>Ffilm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wch ar daith rithiol o gwmpas ystafell farics ac archwiliwch yr eitemau sydd yn yr ystaf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914400"/>
            <a:ext cx="65530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Ffilmiau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e tair ffilm y gallwch chi eu defnyddio ar gyfer eich cyflwyni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ciwch y dolenni isod i edrych ar y ffilmia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914400"/>
            <a:ext cx="670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wed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e llawer o ddelweddau y gallwch chi eu defnyddio yn eich cyflwynia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iwch y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ddolen Delweddau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ld rhestr o’r lluni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90920" y="1371600"/>
            <a:ext cx="5753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ch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ich tad yw pennaeth milwrol Caer y Lleng Rufeinig yng Nghaerll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e wedi gofyn i chi edrych ar ôl teulu Pennaeth Prydeinig fydd yn ymweld â’r gaer ymhen ychydig wythnosau.  Rydych chi yn mynd i roi blas ar fywyd y baddonau Rhufeinig iddyn nhw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yddwch chi’n paratoi cyflwyniad am yr hyn fyddwch chi’n ei wneud gyda’r teulu ar y diwrn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3600" y="990720"/>
            <a:ext cx="158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yflwyni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Nes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761760" cy="838440"/>
          </a:xfrm>
          <a:prstGeom prst="rect">
            <a:avLst/>
          </a:prstGeom>
          <a:solidFill>
            <a:srgbClr val="e4e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09520" y="914400"/>
            <a:ext cx="210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ydnabyddiaeth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371600"/>
            <a:ext cx="5867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ra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ck Blackbur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sgol Gynradd Crind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ctoria Kegi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sgol Iau Waddoledig Caer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e Kilsb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sgol Iau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mes Malone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sgol Iau yr Eglwys yng Nghymru Mal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432160"/>
            <a:ext cx="586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mgueddfeydd ac Orielau Cenedlaethol Cym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l Cro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Addysg (Amgueddfa’r Lleng Rufeinig, Caer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an F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farwyddwr Cynorthwyol (Addysg a Dehong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lie Reynol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Curadurol (Amgueddfa’r Lleng Rufeinig, Caer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yony Spurwa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eolwr Casgliadau All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im Wild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Ffotograffia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4038480"/>
            <a:ext cx="586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D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ine Keny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lyfrgellydd Ffotograffia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Humph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Dehong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464832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ALl Casnewy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Pri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mgynghorydd TGCh Cynorthwy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ven Sing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Datblygu TG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 Truem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yddog Gwasanaeth Hanes Cynr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5486400"/>
            <a:ext cx="586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Wales College, New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thanks to David Smith (Head of Research and Enterprise) for his assistance with the video sections of this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6218280"/>
            <a:ext cx="647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olchiad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ard Besl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wmismatydd (Amgueddfeydd ac Orielau Cenedlaethol Cymr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n Chapm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northwy-ydd Curadurol / Ymchw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51800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dd y tasgau hyn yn eich helpu chi i gwblhau eich 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ddwch chi’n paratoi cyflwyniad am yr hyn fyddwch chi’n ei wneud gyda’r teulu ar y diwrn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Nes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990720"/>
            <a:ext cx="72388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g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glwch wybodaeth am y baddonau gan gynnwys cynllun a phwrpas yr ystafelloedd yn y baddon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dd angen i’ch gwesteion gael offer i’w helpu nhw i fwynhau eu diwrnod yn y baddonau. Penderfynwch ba eitemau i’w rhoi iddyn nh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glwch wybodaeth a chynlluniwch sêl‑fodrwy yn anrheg i’ch gwest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glwch wybodaeth am y gwahanol bethau y gall eich ymwelwyr eu gwneud pan fyddan nhw’n ymweld â’r baddonau a chynlluniwch eu diwrn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 fydd gennych chi ychydig o arian i bob aelod o’r teulu ei wario yn ystod eu diwrnod yn y baddonau.  Dangoswch iddyn nhw sut y gallen nhw wario eu har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6292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6019920"/>
            <a:ext cx="167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990720"/>
            <a:ext cx="685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Tasg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Casglwch wybodaeth am y baddonau gan gynnwys cynllun a phwrpas yr ystafelloedd yn y baddon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glwch wybodaeth am faddonau Rhufeinig o’r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Rhyngrwy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 o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lyfra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Roedden nhw’n wahanol iawn i faddonau heddi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edd gan y baddonau ystafelloedd gwahanol i wneud pethau gwahanol. Fedrwch chi gasglu gwybodaeth am yr ystafelloedd a disgrifio eu pwrp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 ôl i chi wneud rhywfaint o ymchwil, cliciwch ar 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Gweithgared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’ch profi eich h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fiwch edrych ar y dudalen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Gwerthu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weld sut i’ch graddio eich h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1629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990720"/>
            <a:ext cx="685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Tasg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Bydd angen i’ch gwesteion gael offer i’w helpu nhw i fwynhau eu diwrnod yn y baddonau. Penderfynwch ba eitemau i’w rhoi iddyn nh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dd angen i chi edrych drwy’r blwch arteffactau neu glicio ar y ddolen i weld yr arteffactau mewn taith rithiol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taith rithio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gwmpas yr ystafell far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wiswch 5 eitem a chasglwch wybodaeth amdanyn nhw drwy ymchwilio yn y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6"/>
              </a:rPr>
              <a:t>llyfra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yn a gan ddefnyddio’r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Rhyngrwy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boniwch beth yw’r eitemau hyn a pham y byddech chi wedi eu dewis nh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fiwch edrych ar y dudalen </a:t>
            </a:r>
            <a:r>
              <a:rPr b="0" lang="en-GB" sz="20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Gwerthu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weld sut i’ch graddio eich h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6292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990720"/>
            <a:ext cx="6934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Tas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Casglwch wybodaeth a chynlluniwch sêl‑fodrwy yn anrheg i’ch gwes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iwch ar y ddolen i edrych ar y gemau a ddarganfuwyd ym Maddonau’r Gaer yng Nghaerleon. I weld rhagor o luniau cliciwch ar y camera ar ben y sgrî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edd llawer o Rufeiniaid yn gwisgo modrwyau â delwedd o dduw ar em. Roedden nhw’n dewis un o’i hoff dduwiau ac roedden nhw’n credu bod y fodrwy yn dod â lwc dda iddyn nh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rychwch ar y Rhyngrwyd ac mewn llyfrau i gasglu rhagor o wybodaeth am y duwiau Rhufein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wr mae angen i chi gynllunio gem ar gyfer modrwy i un o’ch gwesteion, gan gofio fod rhaid i’r ddelwedd rydych chi’n ei dewis fod yn addas ar gyfer y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1629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990720"/>
            <a:ext cx="6324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Tasg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Casglwch wybodaeth am y gwahanol bethau y gall eich ymwelwyr eu gwneud pan fyddan nhw’n ymweld â’r baddonau a chynlluniwch eu diwrn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iwch y ddolen Ffilmiau i weld ac i glywed sut beth oedd byw yn agos i faddonau Rhufeinig ac i ddysgu am rai o’r gweithgareddau oedd yn digwydd y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nyddiwch y Rhyngrwyd a’r llyfrau hyn i gasglu rhagor o wybodae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haid i chi gynllunio diwrnod fydd yn difyrru eich gwesteion drwy’r dy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62920" y="6172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990720"/>
            <a:ext cx="6629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Tasg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Fe fydd gennych chi ychydig o arian i bob aelod o’r teulu ei wario yn ystod eu diwrnod yn y baddonau. Dangoswch iddyn nhw sut y gallen nhw wario eu har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lai llengfilwr fod â 32 o asiau (arian Rhufeinig) i’w gwario mewn diwrnod yn y baddonau. Mae eich gwesteion yn bwysig felly fe fydd ganddyn nhw 70 yr un i’w gw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wiswch un o’ch gwesteion i’w helpu. Dangoswch iddo/iddi sut y gallai wario ei h/ar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ydd ganddyn nhw ddim digon o arian i brynu popeth felly fe fydd rhaid iddyn nhw wneud dewisiad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iwch ar y ddolen i ddod o hyd i’r daen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Tasg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990720"/>
            <a:ext cx="7010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Broses ar gyfer yr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0b10"/>
                </a:solidFill>
                <a:latin typeface="Arial"/>
              </a:rPr>
              <a:t>Byddwch chi’n paratoi cyflwyniad am yr hyn fyddwch chi’n ei wneud gyda’r teulu ar y diwrn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lwch wneud cyflwyniad i’r dosbarth, gan ddangos eich gwaith mewn ffyrdd gwahano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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wy ddefnyddio eich lluniau a’ch gwaith i ddang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r lleill wrth i chi siarad amdanyn nhw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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wy ddefnyddi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gyflwyno e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iadau yn eu tref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wy ddefnyddio siart fodio a gwrthrychau o’r blw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effactau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yfuniad o’r rhain i gyd – chi sydd â’r dew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13:52:51Z</dcterms:created>
  <dc:creator>OEM Customer</dc:creator>
  <dc:description/>
  <dc:language>en-US</dc:language>
  <cp:lastModifiedBy>Steven Singer</cp:lastModifiedBy>
  <cp:lastPrinted>2002-03-27T16:57:22Z</cp:lastPrinted>
  <dcterms:modified xsi:type="dcterms:W3CDTF">2002-04-16T13:50:45Z</dcterms:modified>
  <cp:revision>219</cp:revision>
  <dc:subject/>
  <dc:title>PowerPoint Presentation</dc:title>
</cp:coreProperties>
</file>